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4.jpeg" ContentType="image/jpe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230-D217-4A59-B8DF-437CA576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655-8F76-442C-9EDC-3CE03C8D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CFB-2AB7-4F7A-B5D4-81CA5D5A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6D7-A6F2-4CAA-A9AE-48AFB860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5B36-78C9-4B6F-91FC-C693114D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31C1-3471-43BD-9C03-2962ADA9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8A2C-0634-4AAC-AA38-D5DE4841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4AB6-E0CE-489A-82A2-37861874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6F5B-0E9A-4C75-8690-ED70E7BA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4DD8-D4EB-4600-86BC-E339FF81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A36C-EC10-4B6A-858A-0F8CAB0C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785-4B83-4F3D-98A4-984B9D92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6C43-50F6-43D8-872E-B148BFC0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11F3-C212-4D57-9016-6593A6E3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9C81-2FE9-49A8-ABD5-719691BC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C31E-1DB2-43BF-85E1-BFDB166A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E6B7-BB68-49E2-9B0F-0F46A1BE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1E2-D254-428F-A34D-9EDBCB4A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B42-7867-439F-AE0B-0A97CC05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F18-84C5-4C13-B3FE-02A09647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07C-D1A0-41FB-9B7F-A96081A0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833-0A3A-4E86-B47F-EC426BB1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BB1-2F06-4FA7-BAE5-26A2B829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B4B-29E7-489F-818D-5296AFD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965-3FAB-431E-8CFE-5BE3C6897D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0062-7E0C-4341-B75E-B006EB173C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HEM</a:t>
            </a: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VIGILA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4076280"/>
            <a:ext cx="7010640" cy="1600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José Carlos Gimena Aparicio.; Jesús García Masegos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nfermeros Hematologí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23097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Objetivos específ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ocer la situación actual en el cumplimiento de las normas y procedimientos de hemoterapia relativos a la petición, la muestra, la historia clínica, el paciente y los procedimientos específicos de la transfusión, así como sus posibles reacciones adversa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valuar su grado de cumplimiento mediante métodos estadísticos y de investigación cualitativa, disponiendo de un informe y documentación contrastable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entificar puntos débiles en el sistema, proceso e inform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aborar y poner en práctica medidas correctoras orientadas a la mejor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jorar la seguridad y calidad de la Hemoterapia, tanto para el paciente como para los profesionales que intervienen en dicho proce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101080" y="333360"/>
            <a:ext cx="7808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Método cuantitativo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trata de un estudio descriptivo de prevalencia, longitudinal, disponiendo para ello de  una encuesta de hemovigilancia validada (Anexo 1), constituida por 26 items de respuesta única y dos de respuesta abier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 estudio se realizo mediante observación pareada y participante de dos profesionales de Enfermería del Servicio de Hematología y Hemoterapia previa instrucción y entrenamiento en las destrezas necesari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028000" y="333360"/>
            <a:ext cx="781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étodo cualitativ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diante la recogida de opiniones, demandas y sugerencias de los profesionales en las distintas Unidades Asistenciales, y su tratamiento ulterior, así como de los propios pacientes y familia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8000" y="333360"/>
            <a:ext cx="781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Ámbito de estud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cientes ingresados en el Hospital Reina Sofía en Unidades que solicitan Hemoderivados para su transfusión durante el período comprendido entre el 11 de Junio y 30 de Octubre de 2010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14800" y="3933720"/>
            <a:ext cx="9144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740720" y="333360"/>
            <a:ext cx="7808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elección de la muest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21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el total de  7869 peticiones de transfusión se seleccionaron aquellas que se realizaron de forma efectiva (177 peticiones) procediendo a la selección de pacientes trasfundidos de forma aleatoria y distribuidos proporcionalmente por centros transfusores siendo N= 150 (y 27 que no pudieron realizarse de forma completa por diversos motiv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028000" y="333360"/>
            <a:ext cx="781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428920" y="1628640"/>
          <a:ext cx="4284720" cy="2793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628640"/>
                    <a:ext cx="428472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128600" y="4437000"/>
          <a:ext cx="6885000" cy="1811520"/>
        </p:xfrm>
        <a:graphic>
          <a:graphicData uri="http://schemas.openxmlformats.org/drawingml/2006/table">
            <a:tbl>
              <a:tblPr/>
              <a:tblGrid>
                <a:gridCol w="800280"/>
                <a:gridCol w="1441440"/>
                <a:gridCol w="46432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Í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iqueta o cumplimentación completa manua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ra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ma leg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g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édic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ma, Código legi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gible y exist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resión clara y adecu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95480" y="1628640"/>
          <a:ext cx="5151600" cy="3119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5480" y="1628640"/>
                    <a:ext cx="515160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66640" y="4797360"/>
          <a:ext cx="8182080" cy="1354320"/>
        </p:xfrm>
        <a:graphic>
          <a:graphicData uri="http://schemas.openxmlformats.org/drawingml/2006/table">
            <a:tbl>
              <a:tblPr/>
              <a:tblGrid>
                <a:gridCol w="949320"/>
                <a:gridCol w="1714680"/>
                <a:gridCol w="55180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Í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iquet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ique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mplimentada correctament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onform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tid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cia de ambos tubos incluidas muestras únicas autorizada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47640" y="1847880"/>
          <a:ext cx="5372280" cy="3162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847880"/>
                    <a:ext cx="537228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971640" y="5084640"/>
          <a:ext cx="6521400" cy="934920"/>
        </p:xfrm>
        <a:graphic>
          <a:graphicData uri="http://schemas.openxmlformats.org/drawingml/2006/table">
            <a:tbl>
              <a:tblPr/>
              <a:tblGrid>
                <a:gridCol w="758520"/>
                <a:gridCol w="1363680"/>
                <a:gridCol w="43992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Í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umento C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cia en historia clín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mpliment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Cumplimentado correctamente. (Formato actu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28760" y="1557360"/>
          <a:ext cx="4686480" cy="320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8760" y="1557360"/>
                    <a:ext cx="46864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826920" y="4724280"/>
          <a:ext cx="6885000" cy="1462320"/>
        </p:xfrm>
        <a:graphic>
          <a:graphicData uri="http://schemas.openxmlformats.org/drawingml/2006/table">
            <a:tbl>
              <a:tblPr/>
              <a:tblGrid>
                <a:gridCol w="800280"/>
                <a:gridCol w="1441440"/>
                <a:gridCol w="46432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Í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pia de la Peti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cia en Historia clín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ja de transfu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cia en Historia Clínic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ro en H.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otación de solicitud de transfusión y moti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tinenc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ecuación a criterios transfusionales (Guía de Indicación de hemoderivad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3713760" y="1681560"/>
            <a:ext cx="1715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eguridad del pacien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28760" y="1752480"/>
          <a:ext cx="4686480" cy="3353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8760" y="1752480"/>
                    <a:ext cx="46864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08120" y="5084640"/>
          <a:ext cx="7727760" cy="936720"/>
        </p:xfrm>
        <a:graphic>
          <a:graphicData uri="http://schemas.openxmlformats.org/drawingml/2006/table">
            <a:tbl>
              <a:tblPr/>
              <a:tblGrid>
                <a:gridCol w="896760"/>
                <a:gridCol w="2535480"/>
                <a:gridCol w="4295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Í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era  de Identifi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rmación/ Presencia./Constatación de haberla tenid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era de transfusiones finaliza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pres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CEPTO DE HEMOVIGILANC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trata de un proceso dinámico de observación, incidencial y de prevalencia de situaciones no deseadas, previstas o consecuentes en el Proceso Hemoteráp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e enmarca en el Sistema de Calidad Transfusional y contribuye a la mejora continua del proceso de soporte asistenc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sult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71640" y="1557360"/>
          <a:ext cx="5400720" cy="2762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1640" y="1557360"/>
                    <a:ext cx="54007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26920" y="4221000"/>
          <a:ext cx="7893360" cy="1951200"/>
        </p:xfrm>
        <a:graphic>
          <a:graphicData uri="http://schemas.openxmlformats.org/drawingml/2006/table">
            <a:tbl>
              <a:tblPr/>
              <a:tblGrid>
                <a:gridCol w="917640"/>
                <a:gridCol w="2827440"/>
                <a:gridCol w="41482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Ít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e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usor/a ini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s pretransfus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ro de constant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s postransfusion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ro de constant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usor fi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cción transfus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ro lógico (si/no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Resultados cualitativo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605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diante la recogida de opiniones, demandas y sugerencias de los profesionales en las distintas Unidades Asistenciales, y su tratamiento ulterior, así como de los propios pacientes y familiares de las cuales destacamos por su frecuenci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780000" y="4437000"/>
            <a:ext cx="158400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Resultados cualita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fesional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e venís a vigilarnos?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íamos que las pulseras se retiraban todas cuando pasaran 72 hora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eno, algunos se van con cuatro pulseras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ía que si no hay reacción transfusional no hay que escribirlo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 no se para que tomar tantas constantes, es perder el tiempo con la sobrecarga que ya tenemos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información sobre la pulsera y la transfusión me la dio la supervisora, pero creo que no se ha enterado de nada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 alegro de que ahora vengáis por aquí, así podemos salir de muchas dudas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Resultados cualita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fesional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 partir de ahora estaremos más atentos a retirar las pulseras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 veces yo misma (enfermera) tengo que rellenar la petición por funcionalidad, mas que nad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¿El consentimiento? ¿Hay que hacerlo también para las transfusiones?, pues el médico no da ni uno y explicar menos aú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¿No es este el formato? (de Consentimiento) pues como para que busquen en el ordenador, ¡no usan ni este!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o veo muy bien lo de las pulseras, así no te equivocas, sobre todo en sitios como este que se transfunde mucho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i gente lo hace todo bien”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¿ Qué, lo hemos hecho bien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Verdana"/>
              </a:rPr>
              <a:t>Resultados cualita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cientes y familia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 ha sentado muy bien, gracias por venir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os es nuevo¿ no?, antes se le ponía la sangre y ya está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ece que voy a la Feria con tanta pulsera, la roja , la verde…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se si la he tenido puesta, entre de urgencia y me operaron y ya no se más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n general el Proceso Transfusional suele estar bien documentado en todas sus dimension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ómo punto crítico destaca la no utilización generalizada del Consentimiento Informado, como instrumento condicionante de la prescrip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Se detecta un registro sistemático de la prescripción en la historia clínica del paciente, aunque a veces no existe uniformidad en el lugar de registro y expresión de la indic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Los instrumentos de seguridad incorporados recientemente al proceso (Pulsera de identificación) se ha aceptado con plena normalidad, aunque a veces resulte difícil constatar que ha sido utilizada, su retirada es otro punto de mejora detectado en este estudio, posiblemente fruto de una información deficiente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gualmente la cumplimentación de la Hoja Transfusional en lo relativo a la concurrencia de reacción transfusional deberá ser motivo de revi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n general se aprecia a partir de los datos cualitativos la aceptación generalizada del Equipo de Hemovigilancia, lo que genera un mayor interés en los profes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or otra parte con la entrevista con el paciente se comprueba la mejora de la imagen del propio servicio de Hematología y Hemoterapia, facilitando la accesibilidad al mism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Su fin es observar el cumplimiento de la buena práctica transfusional de acuerdo a criterios y normas preestablecidas(POE´s) y difundidas suficientemente entre las personas que intervienen y recopiladas en el Manual de Ca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uno de los instrumentos operativos de Sistema de Ca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damento leg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63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AL DECRETO 1088/2005, de 16 de septiembre, por el que se establecen los requisitos técnicos y condiciones mínimas de la hemodonación y de los centros y servicios de transfus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 SCO/322/2007, de 9 de febrero, por la que se establecen los requisitos de trazabilidad y de notificación de reacciones y efectos adversos graves de la sangre y de los componentes sanguíne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AL DECRETO 1343/2007, de 11 de octubre, por el que se establecen normas y especificaciones relativas al sistema de calidad de los centros y servicios de transfus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S DE ACC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229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SE PRETRANSFUSIONAL.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lidad e idoneidad de la prescripción de la transfus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lidad e idoneidad de la muestra y requisitos de cuidados de Enfermerí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lidad e idoneidad de la indicación de la transfusión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lidad y seguridad del producto dispensad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alidad del transporte 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istribu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3011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S DE ACC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6021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Fase Transfusio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de Seguridad en la recep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uidados de Enfermería pretransfusiona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servación de hemoderivado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uidados de Enfermería Transfusiona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uidados de Enfermería Postransfusionales inmediatos y tardí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285920" cy="961920"/>
          </a:xfrm>
          <a:prstGeom prst="rect">
            <a:avLst/>
          </a:prstGeom>
          <a:ln w="0">
            <a:noFill/>
          </a:ln>
        </p:spPr>
      </p:pic>
      <p:pic>
        <p:nvPicPr>
          <p:cNvPr id="100" name="3 Imagen" descr="11.jpg"/>
          <p:cNvPicPr/>
          <p:nvPr/>
        </p:nvPicPr>
        <p:blipFill>
          <a:blip r:embed="rId3"/>
          <a:stretch/>
        </p:blipFill>
        <p:spPr>
          <a:xfrm>
            <a:off x="6227640" y="2708280"/>
            <a:ext cx="2716200" cy="2057400"/>
          </a:xfrm>
          <a:prstGeom prst="rect">
            <a:avLst/>
          </a:prstGeom>
          <a:ln w="9360">
            <a:solidFill>
              <a:srgbClr val="b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S DE ACC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2293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Fase Postransfusio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udio y gestión de incidentes transfusio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udio y gestión de casi-inciden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4 Imagen" descr="44.jpg"/>
          <p:cNvPicPr/>
          <p:nvPr/>
        </p:nvPicPr>
        <p:blipFill>
          <a:blip r:embed="rId2"/>
          <a:stretch/>
        </p:blipFill>
        <p:spPr>
          <a:xfrm>
            <a:off x="5867280" y="1700280"/>
            <a:ext cx="3040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strumentos de Observ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udios retrospectivos. (documentación clínica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udios de incidencia. Sobre cualquier fase del Proceso Transfusio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udios de Monitorización del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udios de investigación cualitativ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221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Objetivo gen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 el presente estudio se pretende describir, analizar, detectar potenciales puntos de mejora durante el proceso de hemoterapi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0" y="2349360"/>
            <a:ext cx="4253040" cy="282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956720" y="404640"/>
            <a:ext cx="78084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1:20:40Z</dcterms:created>
  <dc:creator>OPENLAB</dc:creator>
  <dc:description/>
  <dc:language>en-US</dc:language>
  <cp:lastModifiedBy>OPENLAB</cp:lastModifiedBy>
  <dcterms:modified xsi:type="dcterms:W3CDTF">2012-09-19T09:22:03Z</dcterms:modified>
  <cp:revision>9</cp:revision>
  <dc:subject/>
  <dc:title>HEMOVIGILANCIA INFORME DE RESULTADOS OCTUBRE 2010</dc:title>
</cp:coreProperties>
</file>